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3D0-2D9D-4172-9417-9901B0D0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418-07FA-47BF-9A39-308C8291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94A-8BB7-4E96-A739-3AA55CA2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CFD-DE97-4B8E-8598-E4002B98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FE359-4AF8-4B4A-9E7D-C9651BA6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3E29E-4004-4234-9FBF-C664EAB6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A95DE-49C5-4DB6-93F1-E8B87480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20022-F817-4E50-B921-5E33384E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484C6-FF80-4358-9F54-190E00A2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846DB-3CFD-40EE-9388-D16497C4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F8A69-2F40-4A63-B50D-FF5B74F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17F-4CBC-4861-9FF8-FCDAD7A8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50568-11C3-42D0-9655-31E82594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52FA9-CED1-40CC-98DA-7B8317A2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0E2ED-4114-4B8A-907B-DB82405C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004E9-1FF3-4432-A46B-3EAE3FEB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2C9AF-AF4A-4F49-BDB8-563F6614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C1C-6E2D-4E24-99FF-47709216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376-71E3-47B0-A70B-D144E581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479-439B-4E9D-A4D9-9F26ECD5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5E6-3623-497C-AD53-FCFB2587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AB8-CA6A-40BA-A547-58E88C7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D27-3FA6-47A7-A890-E07EDCBC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1EC-FDB7-4479-A184-0B5C72FE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3149-8012-47DB-89BB-BE29D8DC6A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701A-F315-4531-B7B1-EC68AABFF5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7416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comic"/>
              </a:rPr>
              <a:t>                   </a:t>
            </a:r>
            <a:r>
              <a:rPr b="0" lang="en-US" sz="3600" spc="-1" strike="noStrike">
                <a:solidFill>
                  <a:srgbClr val="e3e3ff"/>
                </a:solidFill>
                <a:latin typeface="comic"/>
              </a:rPr>
              <a:t>LAVANDO CARRO</a:t>
            </a:r>
            <a:br>
              <a:rPr sz="3600"/>
            </a:br>
            <a:r>
              <a:rPr b="0" lang="en-US" sz="2800" spc="-1" strike="noStrike">
                <a:solidFill>
                  <a:srgbClr val="e3e3ff"/>
                </a:solidFill>
                <a:latin typeface="comic"/>
              </a:rPr>
              <a:t>LAVAR O CARRO  COM UMA MANGUEIRA GASTA ATÉ 560 LITROS DE ÁGUA EM 30 MINUTO QUANDO PRECISAR LAVAR O CARRO, USE UM BALDE!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369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comic"/>
              </a:rPr>
              <a:t>AQUÁR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56880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QUANDO FOR LIMPAR O AQUÁRIO,APROVEITAR A  ÁGUA PARA REGAR  AS PLANTA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2:10:56Z</dcterms:created>
  <dc:creator>aluno</dc:creator>
  <dc:description/>
  <dc:language>en-US</dc:language>
  <cp:lastModifiedBy>aluno</cp:lastModifiedBy>
  <dcterms:modified xsi:type="dcterms:W3CDTF">2010-10-25T12:06:53Z</dcterms:modified>
  <cp:revision>5</cp:revision>
  <dc:subject/>
  <dc:title>LAVANDO  CARRO          </dc:title>
</cp:coreProperties>
</file>